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B654-912E-416B-8D5E-483E2F55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0AF5-33F0-40BE-A5A4-85548C0F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B116-717F-4ACD-942D-43963867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468A-0007-4C8E-AE48-52148326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28B2-EB3F-4277-B41F-E66EF261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966B-D303-44B9-A19F-42353B2E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44B2-A62B-4853-A249-2D73B61F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96CC-F2B2-4B7B-9DCF-2C4D8DDA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423F-CE53-4D32-89B8-C81233D0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0FA7-E7B1-4D86-8A9F-578D5259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7BB6-8086-45E5-BA06-DCBECD2B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87EB-0F32-49DF-A0AD-AD020689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97BC-A15F-44A1-8713-DEEF8994D40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29876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2481120" y="1557360"/>
            <a:ext cx="6481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Российские ученые- хими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6012000" y="5157720"/>
            <a:ext cx="299088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Лебедев Сергей Васильевич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347640" y="1483920"/>
            <a:ext cx="59403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b05800"/>
                </a:solidFill>
                <a:latin typeface="Times New Roman"/>
              </a:rPr>
              <a:t>Русский химик. Основные исследования посвящены полимеризации, изомеризации и гидрогенизации непредельных соединений. С 1914г. проводил работы по изучению полимеризации диеновых углеводородов. Разработал одностадийный способ получения бутадиена-1,3, изучил процессы полимеризации его под действием металлического натр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78920" y="5444640"/>
            <a:ext cx="3313080" cy="4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05800"/>
                </a:solidFill>
                <a:latin typeface="Times New Roman"/>
              </a:rPr>
              <a:t>(1874-193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Лебедев Сергей Васильевич"/>
          <p:cNvPicPr/>
          <p:nvPr/>
        </p:nvPicPr>
        <p:blipFill>
          <a:blip r:embed="rId1"/>
          <a:stretch/>
        </p:blipFill>
        <p:spPr>
          <a:xfrm>
            <a:off x="179280" y="1484280"/>
            <a:ext cx="3340080" cy="371952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Марковников Владимир Васильевич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563640" y="2492280"/>
            <a:ext cx="53290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Русский химик, ученик А.М.Бутлерова, один из создателей теории строения химических соединен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0560" y="5444640"/>
            <a:ext cx="2808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37–190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Картинка 3 из 22"/>
          <p:cNvPicPr/>
          <p:nvPr/>
        </p:nvPicPr>
        <p:blipFill>
          <a:blip r:embed="rId1"/>
          <a:stretch/>
        </p:blipFill>
        <p:spPr>
          <a:xfrm>
            <a:off x="179280" y="1484280"/>
            <a:ext cx="2900520" cy="37180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Менделеев Дмитрий Иванович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347640" y="213372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700" spc="-1" strike="noStrike">
                <a:solidFill>
                  <a:srgbClr val="b05800"/>
                </a:solidFill>
                <a:latin typeface="Times New Roman"/>
              </a:rPr>
              <a:t>Русский химик, открывший периодический закон химических элементов, разносторонний ученый, педагог, общественный деятель, член Союза Русского народ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8920" y="5444640"/>
            <a:ext cx="2737080" cy="5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34-190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5"/>
          <p:cNvPicPr/>
          <p:nvPr/>
        </p:nvPicPr>
        <p:blipFill>
          <a:blip r:embed="rId1"/>
          <a:stretch/>
        </p:blipFill>
        <p:spPr>
          <a:xfrm>
            <a:off x="179280" y="1484280"/>
            <a:ext cx="2724120" cy="371952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Несмеянов Александр Николаеви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59280" y="1628280"/>
            <a:ext cx="60847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10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5800"/>
                </a:solidFill>
                <a:latin typeface="Times New Roman"/>
              </a:rPr>
              <a:t>Российский химик-органик, основатель научной школы по химии элементоорганических соединений, академик и президент АН СССР. Директор Института элементоорганических соединений АН СССР с 1954 (ныне имени Несмеянова). Труды по химии металлоорганических соединений. Исследовал механизм органических реакций, "cэндвичевые" cоединения, теломеризац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9280" y="5444640"/>
            <a:ext cx="266400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99–198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 Несмеянов, Александр Николаевич"/>
          <p:cNvPicPr/>
          <p:nvPr/>
        </p:nvPicPr>
        <p:blipFill>
          <a:blip r:embed="rId1"/>
          <a:stretch/>
        </p:blipFill>
        <p:spPr>
          <a:xfrm>
            <a:off x="179280" y="1484280"/>
            <a:ext cx="2638440" cy="37180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Monotype Corsiva"/>
              </a:rPr>
              <a:t>Семёнов Николай Николаевич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842920" y="1628280"/>
            <a:ext cx="6157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b05800"/>
                </a:solidFill>
                <a:latin typeface="Calibri"/>
              </a:rPr>
              <a:t>Выдающийся российский химик, академик. Одновременно с англичанином С.Н. Хиншелвудом в 1926-1928гг. исследовал разветвленные цепные реакции. За эти работы в 1956 г. оба ученых были награждены Нобелевской премией. В 1936 г. основал институт Химической физики Российской академии наук, который и назван его имен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8920" y="5444640"/>
            <a:ext cx="2737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96–198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Картинка 2 из 146"/>
          <p:cNvPicPr/>
          <p:nvPr/>
        </p:nvPicPr>
        <p:blipFill>
          <a:blip r:embed="rId1"/>
          <a:stretch/>
        </p:blipFill>
        <p:spPr>
          <a:xfrm>
            <a:off x="179280" y="1484280"/>
            <a:ext cx="2752920" cy="37162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Фаворский Алексей Евграфови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419640" y="1628640"/>
            <a:ext cx="54734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18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5800"/>
                </a:solidFill>
                <a:latin typeface="Times New Roman"/>
              </a:rPr>
              <a:t>Русский химик. Родился 20 февраля (3 марта) 1860 в с.Павлово Нижегородской губернии в семье священника. Учился в Нижегородской, затем Вологодской гимназии. В 1878 поступил на естественное отделение физико-математического факультета Петербургского университета, где в то время преподавали Д.И.Менделеев, А.М.Бутлеров, Н.А.Меншуткин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9280" y="5444640"/>
            <a:ext cx="3168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60–194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Фаворский, Алексей Евграфович"/>
          <p:cNvPicPr/>
          <p:nvPr/>
        </p:nvPicPr>
        <p:blipFill>
          <a:blip r:embed="rId1"/>
          <a:stretch/>
        </p:blipFill>
        <p:spPr>
          <a:xfrm>
            <a:off x="179280" y="1484280"/>
            <a:ext cx="3167280" cy="37162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Чугаев Лев Александрович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56000" y="1700280"/>
            <a:ext cx="6588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b05800"/>
                </a:solidFill>
                <a:latin typeface="Times New Roman"/>
              </a:rPr>
              <a:t>Один из самых знаменитых русских химиков. Его научные работы относятся к области органической химии и химии комплексных соединений. Чугаев основал в Петрограде институт платины, создал отечественную школу химиков-неоргаников, открыл "правило циклов", одним из первых стал применять органические реактивы в аналитической химии. Он открыл реактив, носящий его имя, для количественного и качественного определения никел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8920" y="5444640"/>
            <a:ext cx="252108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73-192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Чугаев Лев Александрович"/>
          <p:cNvPicPr/>
          <p:nvPr/>
        </p:nvPicPr>
        <p:blipFill>
          <a:blip r:embed="rId1"/>
          <a:stretch/>
        </p:blipFill>
        <p:spPr>
          <a:xfrm>
            <a:off x="179280" y="1484280"/>
            <a:ext cx="2559240" cy="371952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07552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Бутлеров Александр Михайлови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109680" y="1844640"/>
            <a:ext cx="60339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сийский химик-органик, академик Петербургской АН (1874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л и обосновал теорию химического строения, согласно которой свойства веществ определяются порядком связей атомов в молекулах и их взаимным влиянием. Первым объяснил явление изомерии. Открыл полимеризацию изобутилена. Синтезировал ряд органических соединений (уротропин, полимер формальдегида и др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78920" y="5445000"/>
            <a:ext cx="2808360" cy="5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f5908"/>
                </a:solidFill>
                <a:latin typeface="Times New Roman"/>
              </a:rPr>
              <a:t>(1828—188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Картинка 1 из 72"/>
          <p:cNvPicPr/>
          <p:nvPr/>
        </p:nvPicPr>
        <p:blipFill>
          <a:blip r:embed="rId1"/>
          <a:stretch/>
        </p:blipFill>
        <p:spPr>
          <a:xfrm>
            <a:off x="179280" y="1484280"/>
            <a:ext cx="2786040" cy="3718080"/>
          </a:xfrm>
          <a:prstGeom prst="rect">
            <a:avLst/>
          </a:prstGeom>
          <a:ln w="0">
            <a:noFill/>
          </a:ln>
        </p:spPr>
      </p:pic>
    </p:spTree>
  </p:cSld>
  <p:transition spd="med" advTm="0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Monotype Corsiva"/>
              </a:rPr>
              <a:t>Гесс Герман Иванович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00240" y="1428480"/>
            <a:ext cx="614376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290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f5908"/>
                </a:solidFill>
                <a:latin typeface="Times New Roman"/>
              </a:rPr>
              <a:t>Русский химик родился 26 июля (7 августа) 1802 в Женеве. Вместе с семьей переехал в Россию, где и прошла вся его жизнь. По окончании медицинского факультета Дерптского университета (1825) занялся химией. Окончил Стокгольмский университет. Занимался изучением химического состава и лечебного действия минеральных вод России, исследовал свойства каменной соли в залежах Иркутской губернии. Гессу было присвоено звание адъюнкта (1828), а затем – экстраординарного академика Академии наук (1830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9280" y="5373720"/>
            <a:ext cx="2880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f5908"/>
                </a:solidFill>
                <a:latin typeface="Times New Roman"/>
              </a:rPr>
              <a:t>(1802–18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hess_1"/>
          <p:cNvPicPr/>
          <p:nvPr/>
        </p:nvPicPr>
        <p:blipFill>
          <a:blip r:embed="rId1"/>
          <a:stretch/>
        </p:blipFill>
        <p:spPr>
          <a:xfrm>
            <a:off x="179280" y="1484280"/>
            <a:ext cx="2820960" cy="3718080"/>
          </a:xfrm>
          <a:prstGeom prst="rect">
            <a:avLst/>
          </a:prstGeom>
          <a:ln w="0">
            <a:noFill/>
          </a:ln>
        </p:spPr>
      </p:pic>
    </p:spTree>
  </p:cSld>
  <p:transition spd="med" advTm="40000">
    <p:circl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Герасимов Яков Иванович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36960" y="1844640"/>
            <a:ext cx="610704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10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f5908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af5908"/>
                </a:solidFill>
                <a:latin typeface="Times New Roman"/>
              </a:rPr>
              <a:t>Советский физико - химик, член-корреспондент АН СССР (1953). По окончании в 1925 МГУ работал там же. Ученик профессора А. В. Раковского. Основные труды по термодинамике цветных и редких металлов и металлических сплавов. Главный редактор "Журнала физической химии" (с 1954). Председатель Научного совета по химической термодинамике и термохимии АН СССР (с 1966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8920" y="5373360"/>
            <a:ext cx="2808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f5908"/>
                </a:solidFill>
                <a:latin typeface="Times New Roman"/>
              </a:rPr>
              <a:t>(1903—1983)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Герасимов Яков Иванович"/>
          <p:cNvPicPr/>
          <p:nvPr/>
        </p:nvPicPr>
        <p:blipFill>
          <a:blip r:embed="rId1"/>
          <a:stretch/>
        </p:blipFill>
        <p:spPr>
          <a:xfrm>
            <a:off x="179280" y="1484280"/>
            <a:ext cx="2803680" cy="371952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Зелинский Николай Дмитриевич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58920" y="2205000"/>
            <a:ext cx="5786280" cy="26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мечательный русский химик, основоположник учения о гетерогенном органическом катализе, создатель первого в мире универсального угольного противогаза, учитель нескольких поколений хим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8920" y="5373720"/>
            <a:ext cx="280836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61-1953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Зелинский Николай Дмитриевич"/>
          <p:cNvPicPr/>
          <p:nvPr/>
        </p:nvPicPr>
        <p:blipFill>
          <a:blip r:embed="rId1"/>
          <a:stretch/>
        </p:blipFill>
        <p:spPr>
          <a:xfrm>
            <a:off x="179280" y="1484280"/>
            <a:ext cx="2789280" cy="37180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Зинин Николай Николаевич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916360" y="1844280"/>
            <a:ext cx="5976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b05800"/>
                </a:solidFill>
                <a:latin typeface="Times New Roman"/>
              </a:rPr>
              <a:t>Русский химик – органик. Научные исследования посвящены органической химии. Открыл реакцию восстановления ароматических нитросоединений, послужившую основой новой отрасли химической промышленности – анилокрасочной. Изучил свойства различных аллильных производных. Совместно с А.А. Воскресенским основал школу русских хим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78920" y="5300280"/>
            <a:ext cx="2737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12-188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Зинин, Николай Николаевич"/>
          <p:cNvPicPr/>
          <p:nvPr/>
        </p:nvPicPr>
        <p:blipFill>
          <a:blip r:embed="rId1"/>
          <a:stretch/>
        </p:blipFill>
        <p:spPr>
          <a:xfrm>
            <a:off x="179280" y="1484280"/>
            <a:ext cx="2710080" cy="371952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Ипатьев Владимир Николаевич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71640" y="2133720"/>
            <a:ext cx="612144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b05800"/>
                </a:solidFill>
                <a:latin typeface="Times New Roman"/>
              </a:rPr>
              <a:t>Российский химик-органик, один из выдающихся химиков России. Родился в Москве; избрал военную карьеру, получив офицерское звание в 1887 г. Учился в Михайловской артиллерийской академии в Санкт-Петербурге, где позднее преподавал хим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9280" y="5229360"/>
            <a:ext cx="2448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67-1952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Ипатьев Владимир Николаевич"/>
          <p:cNvPicPr/>
          <p:nvPr/>
        </p:nvPicPr>
        <p:blipFill>
          <a:blip r:embed="rId1"/>
          <a:stretch/>
        </p:blipFill>
        <p:spPr>
          <a:xfrm>
            <a:off x="179280" y="1484280"/>
            <a:ext cx="2502000" cy="37180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Каблуков Иван Алексеевич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76360" y="2133720"/>
            <a:ext cx="56163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b05800"/>
                </a:solidFill>
                <a:latin typeface="Times New Roman"/>
              </a:rPr>
              <a:t>Выполнил основополагающие работы в области электрохимии неводных растворов. Одновременно с В. А. Кистяковским, но независимо от него ввёл в науку представление о сольватации ион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9280" y="5445000"/>
            <a:ext cx="28800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57-194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Каблуков Иван Алексеевич"/>
          <p:cNvPicPr/>
          <p:nvPr/>
        </p:nvPicPr>
        <p:blipFill>
          <a:blip r:embed="rId1"/>
          <a:stretch/>
        </p:blipFill>
        <p:spPr>
          <a:xfrm>
            <a:off x="179280" y="1484280"/>
            <a:ext cx="2874960" cy="371952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Курнаков Николай Семенович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03280" y="1773000"/>
            <a:ext cx="55450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b05800"/>
                </a:solidFill>
                <a:latin typeface="Times New Roman"/>
              </a:rPr>
              <a:t>Занимался изучением свойств комплексных соединений, открыл целый ряд новых соединений платины, установил закономерности, позволяющие определить внутреннее строение некоторых комплексных соединений двухвалентной плати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5445000"/>
            <a:ext cx="26640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5800"/>
                </a:solidFill>
                <a:latin typeface="Times New Roman"/>
              </a:rPr>
              <a:t>(1860-194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Курнаков Николай Семенович"/>
          <p:cNvPicPr/>
          <p:nvPr/>
        </p:nvPicPr>
        <p:blipFill>
          <a:blip r:embed="rId1"/>
          <a:stretch/>
        </p:blipFill>
        <p:spPr>
          <a:xfrm>
            <a:off x="179280" y="1484280"/>
            <a:ext cx="2667240" cy="37180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2:12:25Z</dcterms:created>
  <dc:creator>User</dc:creator>
  <dc:description/>
  <dc:language>en-US</dc:language>
  <cp:lastModifiedBy>Admin</cp:lastModifiedBy>
  <dcterms:modified xsi:type="dcterms:W3CDTF">2021-03-29T13:33:31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31049</vt:lpwstr>
  </property>
</Properties>
</file>